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C2BBC-A88F-4A07-9C23-AC4608567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BF217-BD53-4590-BDB2-CD408380B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CBD3A-4F54-49C2-BAD3-0F55E83E9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0F3EB-78C0-48A2-A340-8153B1F2E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55DAA-0628-4EA3-B71A-849B4EA10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21E14-C3D9-4CC6-A9CA-58196994B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19ACD-03A1-4373-93D1-741143C2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481C9-CFBF-4560-9EA8-2BD0BC021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AD7EF-4D11-4FB6-AC38-AF04FDFB8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9ACB5-B9D5-4BA3-B2E4-305E6631C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C1AB7-3B6E-42AC-9864-F862C5C4D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A6A1A-ECF9-4277-8DB3-F13D8D087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29799-B993-4E88-B29F-3E8642FFD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74A18-9EC2-4090-905D-FA0B7BBC3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8D18F-7BF4-4CE8-BC8E-8C33FBEC5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64A37-A93A-4B1A-B228-8ADEE064C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9DEAD-C7EA-48EE-855B-8CC3C8FEB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FF3CE-519F-49CF-B788-670F4DAB8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E5B5F-1BC9-44C1-AC13-642D13161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80F31-6942-46AA-AE6A-35A876388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35B7B-D872-4493-9A29-884779BF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ACD1-0691-4869-9BAA-26C7330D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90F4-CF81-483A-9861-0B9C9313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596A5-9F95-4E9B-959B-D3B3B6530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DF6F-A2E0-461F-B0F2-6D1E172D08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AC48-BA3E-4D95-A77D-CDAB2C84A7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partacus.schoolnet.co.uk/USAkingML.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555920"/>
            <a:ext cx="7628040" cy="124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egregation and Slavery</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kayla Kelle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3800" spc="-1" strike="noStrike">
                <a:solidFill>
                  <a:srgbClr val="ffffff"/>
                </a:solidFill>
                <a:latin typeface="Arial"/>
              </a:rPr>
              <a:t>How did slaves come to America?</a:t>
            </a:r>
            <a:endParaRPr b="0" lang="en-US" sz="38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times when the colonies were emerging and more people were coming to the “new world” most would bring their slaves along with them.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ves were also becoming a higher demand. The British were the ones who began taking Africans in their own countries by will and would ship them away to America. They even built forts along the coast to capture more. Muhammad, the beginning of the Lewis family tree, was captured in his village by white 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3800" spc="-1" strike="noStrike">
                <a:solidFill>
                  <a:srgbClr val="ffffff"/>
                </a:solidFill>
                <a:latin typeface="Arial"/>
              </a:rPr>
              <a:t>Living Conditions and Treatments</a:t>
            </a:r>
            <a:endParaRPr b="0" lang="en-US" sz="38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s were particularly better during the Civil war period because humans knew more of health than in the colonial times. Most slave owners gave their slaves the essential things like food (pork and corn), clothing, and medical attentio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family no matter how big, would live in a small wooden cab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Segregation </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regate: to separate or set apart from others or from the main group; iso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Civil Rights Movement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rights movements happened in the 50s and 60s where blacks fought for equal rights. Marches were held everywhere in the south. Blacks would march down streets protesting to be treated equal, while being pelted with rocks or beaten by pol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ontgomery Bus Boycott</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ost famous protests was the, Montgomery Bus Boycott after Rosa Parks was arrested because she didn’t give her seat up to a white man. For thirteen months the 17,000 black people in the city of Montgomery did not use the bus. The Bus companies were loosing great amounts of money. The supreme court decided to make the decision to integrate b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sources </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66"/>
                </a:solidFill>
                <a:uFillTx/>
                <a:latin typeface="Arial"/>
                <a:hlinkClick r:id="rId1"/>
              </a:rPr>
              <a:t>http://www.spartacus.schoolnet.co.uk/USAkingML.htm</a:t>
            </a:r>
            <a:endParaRPr b="0" lang="en-US" sz="20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ericanrevwar.homestead.com/files/civwar/slaver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3:25:10Z</dcterms:created>
  <dc:creator>Classroom/Lab</dc:creator>
  <dc:description/>
  <dc:language>en-US</dc:language>
  <cp:lastModifiedBy>Classroom/Lab</cp:lastModifiedBy>
  <dcterms:modified xsi:type="dcterms:W3CDTF">2010-11-03T13:43:46Z</dcterms:modified>
  <cp:revision>3</cp:revision>
  <dc:subject/>
  <dc:title>Segregation and Slavery</dc:title>
</cp:coreProperties>
</file>